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1798-91FF-4781-89FA-B96EACAB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630A-C545-49ED-A61E-1DB89F40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124E-4F6F-44E3-AC9E-B1F38735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7EBB-F85C-4571-BC4D-0961F7FE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6D52-77F4-43C0-BC14-BEC61DD0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7188-7E9A-47B6-ADD3-D18F6C86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3BEB-1B74-4DEC-A3AB-5F0D37F2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7CD6-54B6-4199-B061-8B38B3AE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8BE4-156F-479D-9000-5A79F10C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456A-1FB1-40C5-A427-E04FA6F5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82B2-FEB5-4A43-92A6-DE87A276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59F3-D8D4-4406-979E-C3D828FD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84F4-0C5A-4B58-9043-6AE7255F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F249-F2ED-4D0E-8EAF-C1D74ED8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A777-B638-4C76-8016-8674D034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2AB9-1D8B-49F0-9299-3F1AB276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4F0D-BADD-4AF5-A97A-84590DD5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392E-6C13-4F6F-B96B-35A1FBEF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E7AF-5566-4E1C-926B-EB0F710E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E03CB-FE43-459C-90D9-522006B7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A5F9-F828-45A3-A07A-8794009F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8EC8-CD52-41B2-B15D-D9947300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149B-CB63-4B4E-9D48-98F24182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09FF-A4DA-46B3-ADC8-4CE5CBEE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3B08-9450-4FA8-A3F9-7A1FB41AFF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2041-8851-40C1-A188-4D7908E09A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57320" y="4500360"/>
            <a:ext cx="601956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ы ввода/выво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628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6 IC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захвата таймера/счетчика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5 Т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4 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3 INT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2 IN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1 TX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ыход передатчика U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00" y="765000"/>
            <a:ext cx="82296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964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разрядный — двунаправленный для ввода/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выводов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435880" cy="4187880"/>
        </p:xfrm>
        <a:graphic>
          <a:graphicData uri="http://schemas.openxmlformats.org/drawingml/2006/table">
            <a:tbl>
              <a:tblPr/>
              <a:tblGrid>
                <a:gridCol w="1738440"/>
                <a:gridCol w="669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положи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(отрица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С1 (выход совпадения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OS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IS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ы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CK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тактовых импульс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158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В 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8 битов порта В при использовании для ввода/вывода одинак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лияние DDBn на выводы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2133720"/>
          <a:ext cx="8229600" cy="3744720"/>
        </p:xfrm>
        <a:graphic>
          <a:graphicData uri="http://schemas.openxmlformats.org/drawingml/2006/table">
            <a:tbl>
              <a:tblPr/>
              <a:tblGrid>
                <a:gridCol w="861840"/>
                <a:gridCol w="957240"/>
                <a:gridCol w="1202040"/>
                <a:gridCol w="2306520"/>
                <a:gridCol w="2901960"/>
              </a:tblGrid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D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RT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дтягивающий резис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ретье состоя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Hi-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п источник тока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ли соединен с зем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7 S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тактовой частоты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6 MIS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5 MOS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3 ОС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совпа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POR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 Выходные буферы порта могут поглощать ток до 20 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воды используются как входы и на них подан низкий уровень, то при подключении подтягивающих резисторов они являются источниками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133720"/>
          <a:ext cx="8229600" cy="3886200"/>
        </p:xfrm>
        <a:graphic>
          <a:graphicData uri="http://schemas.openxmlformats.org/drawingml/2006/table">
            <a:tbl>
              <a:tblPr/>
              <a:tblGrid>
                <a:gridCol w="2444760"/>
                <a:gridCol w="5784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ы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O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О (внешний вход таймера/счетчика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1 (внешний вход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C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захвата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DDDn регистра DDRD выбирает направление передачи дан­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установлен, вывод сконфигурирован как вы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сброшен — вывод сконфигурирован как в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PORTDn установлен и вывод сконфигурирован как вход, включается КМОП подтягивающий резис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тключения резистора PORTDn должен быть сброшен или вывод должен быть сконфигурирован как вы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35Z</dcterms:modified>
  <cp:revision>10</cp:revision>
  <dc:subject/>
  <dc:title>Микропроцессорные системы</dc:title>
</cp:coreProperties>
</file>